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3E7-2DD2-4A43-8B3E-F649C38B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A6A-8C76-471B-B698-0DE68B2D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85F41-FFE0-4F03-BD74-6E7602A8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B5F3D-E73A-4D49-B640-745AC561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CF045-8876-4C90-971B-754A5E61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02C4E-A09F-445A-9F8B-C8365575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C2404-55DC-49CB-B8A3-4E6E121E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77A7E-E9C7-4807-AA6F-ABB2A46A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DF102-AC6C-4816-AF19-B2ED3F17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9E70E-4008-43C9-AA62-F6E16184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53F1E-37EA-426C-BA74-AE09948F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6FC1D-DA54-4CF5-B0F9-BEF2321F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623-F18C-4C3E-AF64-ECE8D936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02A90-022D-48A0-ADE0-0E7CCFBC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5FA56-5187-4C8F-9637-800A720E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1F6E6-A3F8-4851-820D-4970EEF4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D3B7C-6F51-4AD5-B30B-B012499E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E746D-99DE-4C28-B759-84C8A62C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370A1-10DB-4AD3-8695-0A992DBE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5054B-12E8-475C-98D8-45F44D38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ED730-3EB4-4BAB-BCF0-50352077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830CD-75E3-4EC8-93CA-ABDC2636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42F54-8A2B-405D-B1FF-AE356CB3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C79-BAFF-42E2-AFEF-AB07B550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6DF41-37C8-4448-B504-96F46EF7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46BC6-17D2-4722-AE59-BFB62517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2673E-9EBB-4E0B-B9B3-3868C070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C4694-B53D-43C8-BA7D-7362A5CA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43252-1EEF-48F4-8977-676D52A4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806DB-F44E-4DE7-9B91-213804ED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ABE82-9A59-418C-A620-18671CBC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EBA7D-0F8D-4F23-91C6-9404D931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C49A9-F9CA-4A74-8187-C087EF8C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1DD5C-516B-45B6-8027-5910B34E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A56D-DEE1-4F59-8685-B73EDA49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8743C-8F30-4698-931B-891FD8F2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FBB1D-BDDD-4E40-96D7-E326E341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E4049-B540-4DBC-B1CC-FC7B839D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3452B-5086-412D-97CB-BDDF5AE8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A642C-5BA9-4E12-83E6-183F5FB2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9F6FB-6E92-4E16-92F3-F169AA97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98A79-1ECB-46E7-937E-6EB9DA85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34C4F-7644-4CE4-A5D1-480F45EE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D10A5-DBD8-41E4-8EED-50FF658A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435DB-7F4A-4C52-B6BE-91E745C8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0632-E36F-4AC5-8CC0-4BF56F81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AB4A3-642A-4EC4-82A1-8F9B06FC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37008-2B1D-4E0F-AC6E-7771CC20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3DE25-B18E-42E0-A2D6-47279DBC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825B5-5720-4712-A19A-BBC39A3C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7BD8E-69BD-4A44-B408-81FED7CE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31A84-201C-43F6-9615-20779F0C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38F79-4305-4472-93A6-B8D50303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C3B0F-9EA1-478F-9571-4CEFD7B7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28F70-4737-4679-874A-832E640A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5AF49-B393-405D-8D9E-1B7F3F68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6749-3EB8-40F6-B033-AA33282B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61304-BB85-4F06-805F-9A222275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C9AE2-EBC0-46D7-A213-4411ADE3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31EE4-A48F-454C-8D3E-562F799E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A37A6-E31E-4B06-B89C-736DBA91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320878-6241-4910-9B86-BDF107DF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CCC42-8F92-45C4-8D84-2470040B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47308-0693-47D9-9D99-1074A2DC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8D4B6E-872F-4F33-A046-E09E3D0B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2054A-5DA5-45FE-A5C5-0AA15EAE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71E603-9430-4B22-A73E-986280A4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7B3E-A888-45E3-B1B3-7426F093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D04185-98B0-4721-B67D-53C88AFF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61D0C-20D2-420F-981F-F2209085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1ECD1-D28F-4C5A-BFB0-AFBC8A70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56F58-441B-448F-A08F-2FD74037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E593F-4BEE-4BDB-B92D-B56808DC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E7A715-30E3-470B-91F7-B7C52345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3B84C-E8D3-4BBA-B350-9E1561E2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4154E-3E0A-4E2D-9F69-026F7E4B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243B58-FA6C-4CE6-8B07-F32C3D72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36F16-68F8-4F3D-9100-8B185336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4C65-D956-4CA7-9FD0-0BB208FF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7399C-11DF-4075-99C5-83C617DA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8D675E-D3E6-4AE0-9E6A-6C3468DA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61ECA-639F-42BC-A90B-902C17BE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68AD13-5962-49DA-A775-2A6C94EF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5C9649-7D54-4C21-AAB6-CB1D1ACB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12FAB3-80A6-4597-BB06-716B44DD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443072-3089-473D-B4BF-F06A02A4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011DF7-6496-4987-8A1F-7FC32CCE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3C49D1-DEB5-4D81-8882-90D9A4C7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06B10-4F6A-4467-8CDF-0A6DF5CB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15C1-2C1E-437B-A63D-DACD6FE1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21722-A964-47EE-AFA3-0C5720B8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A19B24-8AF1-4D57-8134-D72403DA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83DC9-C482-4EF4-96B4-F6112348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6B165-644E-426A-B4BE-BA113CD1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3A8FF3-C8AE-4E0D-AE4B-FE106618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46D0BB-56F8-4C7E-90A6-AA3942FB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FBB584-AC88-4271-B122-C27A8E0E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8E7B9-308C-4498-B6ED-DEB09B5A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97CCA1-5925-4716-B371-9B5B2C29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41F473-D27B-4834-B59B-872E39DE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CE1C-012C-4D91-8C44-281BD5A9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424DD0-A0B9-402B-92E9-F081FDEF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892E44-F87A-45DB-A6B8-F66511D3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76A3AF-AF36-4582-AD5B-CDDCA426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A3D2B1-5C37-4406-B739-9D73373C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77CFCD-4D9B-4112-866B-CEFCB683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F09B10-8B16-4A81-A6BF-10EFE84F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5457C9-9657-4954-86CE-234DA379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463984-4FE7-4FFB-8AF4-140A5B91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6D15A8-7843-441F-990F-B939B69F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0645C3-CD11-472B-A70D-A69F9A98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C69-71B5-4A1B-996F-E6967B08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1EE8-EE2A-40E9-AB8E-B4E95E62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383AB9-B856-4388-8DD8-2EE9644A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6496A-5584-4014-B3AF-248E1A0F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1CCFF4-22A3-40B7-997C-C5BB6220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B306E2-9235-45EE-936B-0290E210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497AEB-D6DD-4A0C-B156-DD33CF82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F8411-9948-43E8-97A8-DC08CAC4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357A5-99A4-48CB-87AF-A30B74DD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5C78F-0D40-48A1-B259-D2C45A03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66486-7BC5-4088-BA78-76E4576E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1A906C-FF87-4E35-BFF6-F284F6BA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20DB-F475-4128-9C1C-9B758DC9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F2EE1A-A5E0-4D80-8EAE-13352907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B055FE-6541-49CD-BBAA-135674B1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C2A200-1DFB-45ED-A246-44FE4861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7A12C6-8C9D-4BE1-A948-18FB56B1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674750-4962-4A19-B66E-F139A16E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A5E533-8FE3-4387-85AF-C5BDF943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A1FCF6-F7C0-429A-8D1A-358D1640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0679FC-CE6E-4408-A2A9-0BEC15A8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C16F1A-9275-43AF-9F7B-031F7EFA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887C53-DBBB-4C1B-88C0-B6E0F93D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314A-95C0-4789-A21E-E260D44E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A16802-47F9-4623-B2A4-C57AF8BF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94742C-BD6B-4B43-9D6B-7ECC97C7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E3F7F9-82AB-4457-BF17-8AD13A4F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DDF2D0-7C59-4E5F-91D7-2D1CC1A6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402E2C-FA38-421F-BD13-1949F2CB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21578F-BB35-4F42-9F0B-A44608B8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8C8433-CA89-4FFC-B588-F55A1C4D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933EAC-497F-423F-B643-374D3C21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F945A9-343F-4248-AEE1-ED8BD1B5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372408-42B2-4026-810E-E4E14836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4F23-1BC8-4E8B-B1C8-4A261A73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B91B27-8427-42E4-B73E-2AF72375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7570F7-4717-413F-9378-7BCDB34B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014506-8549-4BAC-918C-B1517974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0EC927-E360-4400-91FA-EE3E70D7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6DC76C-8182-4940-A194-B277D0F3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D59515-09F3-4269-A856-F3A51B2F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CC5D21-8C67-4B2E-819C-E4698D2C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F4BE0C-C4AA-4ECF-ABBA-28F1FE8A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92FD80-4D1B-4B66-8F20-C458F120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D6DD7-F209-4095-BABC-DEB99615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F5BE-A527-48BB-9EFF-D8F016DE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C65B4-ECB7-42C2-9813-3CD01704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609AB6-C457-4C1F-A0DB-EBC36B4A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BB0A85-D54F-4326-A4B3-DCF8E9E6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423851-52E0-43D8-9F5E-F5A02D06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243A75-CDE1-4CEE-9969-39E0FCA5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E0911A-4C10-4090-95AC-D3B2413D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CE27DE-7888-4B71-8990-EE783800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D98E86-C983-4FC6-AED6-CB33CAE5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0B7F2B-F548-4D5C-9817-F1ACA196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46FC45-F448-4BB0-9371-A577A6B8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0F66C-C416-404B-B125-CAB32643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4D3850-915A-46CC-97A8-2C985DE8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60B98C-0D49-4A1A-9676-856FDFCD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64C8A9-87FE-4147-AE46-CA2363CE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B340-1EAD-43D3-8D98-EF813FDC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7F6F5-2FBD-4098-A5F5-17D3610E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CD5D2-871D-46C4-834C-950DB4BA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288E9-0BB4-4384-82CF-125AD9F2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650-129E-42F7-99C3-00FAAE06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87EDE-5FBB-4899-A212-B0A118AF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0374-F707-445C-814A-4228B260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A8EBC-6F03-4668-AF99-A4570C1C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6AC36-33A0-4BC4-97E9-18B420FF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3CFD0-35D1-42CD-A11E-15811466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7D58-CA49-42B3-8140-C92FD185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E6EB-1474-412A-94D2-DBD4A952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72DA6-C3B3-4630-B651-9FB16B52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11F62-3DC4-4FCD-9E61-F1575A9A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C2100-121B-4832-81BB-CEE3CD7A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DFF-5A30-4FD8-8441-B2D0826E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78AA9-1F52-401D-B33E-E123A187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D1020-3C6F-4868-B89A-6DF3F78D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79DF6-F289-4561-8322-98914EF0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1F2E4-04EC-4AB5-8769-A0A8DD1D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24D9B-74B3-4ADD-819C-B9C6510B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FCD2D-6CD6-4ED9-B114-33143EE9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8C85C-A4D8-45D0-8B51-3A282462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34645-4FFD-4DB9-A67F-B9125350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7325C-A77E-434D-A776-8E09B9BD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5C07D-21CE-4CD2-927B-2A1E8C30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D91-1424-47B6-AB3C-3F677DA4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892AA-41D8-452D-B176-1C30DDEE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BA065-2437-48E8-A82B-09DC5248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4E55C-7A21-4927-B245-D96C06BA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A1457-D9D4-47FC-8909-0DA7B6A9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0F019-E40F-47E3-A6FB-E3E0070C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CB1D3-408B-4B13-BE58-8B73C6A8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FAB39-C7C5-4362-95C5-064F5A4F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2DDF2-A596-47E3-9BED-51EC7617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440AA-2228-4C88-9C9C-E4B71F9D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2C38C-C56E-456F-8646-4CF988AF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1C2-83B8-4E1B-9654-93A04C78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EAF3D-60D3-4AE6-86FA-8B56E717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432B2-99EA-43D8-B518-7A1064C1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3998C-A54F-4827-9B35-46C75A79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B9CBC-F723-4DF7-80FE-3E77F552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7BC22-65D0-43C8-AFB1-84A98187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DD203-F6A6-4BD4-B3D8-7977B298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7DF66-BE12-4BC6-8E2C-2A487B8E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4A5B9-6E7E-4EA9-93F7-95D23A4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5382D-F1C7-4A73-B6E5-C2328781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BF7CC-C64A-4BEF-AD5B-6B901340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5A6-B0C6-4744-B501-55975C17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B0FE7-A9DB-40CC-80D7-78B5E833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D8FD5-C32F-4AF9-8631-95B2806B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A9FB1-ACC0-489C-A84A-E528010F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120E5-0A37-45FC-A5A0-DDCB07B0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0D07C-D0D8-4C62-9959-FDABCEE4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7FEA7-5789-44C9-BC11-FD49ED8E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B0E3C-DACE-4A25-A5C2-6E007421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8F07D-88D4-4307-B836-6F708E5B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A1DD8-7CC7-4911-91FC-BE0A2593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9D5B4-31D0-43B0-B91C-7B6D3A7D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259-A8E1-4064-B007-57374402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89ABF-3969-4924-BB57-0F2D253E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50BA3-753E-4C39-9C82-406D58EF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A0606-DD46-4DD7-B088-8B422DC0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EFE74-FEC4-4555-BE9F-6F852911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B552E-3600-4791-A5EF-BC7F5ADC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BEA72-3FFF-42C1-8F6C-EDC7B8CD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7FADD-A9B2-4A5C-A5D0-46650C91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646F8-0B6C-4F2D-AA94-DF29CCB0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5661C-D0DC-48BD-8A3B-F837D86B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9BA02-0FFD-4E9D-8817-95912F62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36C-9018-45C9-8AA9-FB2BF099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313BE-FEA3-4F67-8978-670DC34D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C4306-88E3-4633-A6AC-76A30C9C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5C72F-6F47-4C5C-874C-DE0CDAE3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2A61B-EF63-4052-89DD-E15E5318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F3D00-D87F-4D18-8815-8B035F86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DC7C0-7933-449A-B08C-6E8E46F9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BA527-6C68-4ED7-906E-EDC7EADE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9C0C5-FE24-494B-BFFF-EE4CBE53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856FB-9B19-4DBF-8C79-42E76EAD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B4FC0-CA69-4E2F-9681-7D9021B9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A7D7-625E-42FE-910F-98A521934B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F60E-D4FC-4E10-BC26-29560CDEEF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B06B-A7D7-45EF-A1AD-D5AC4FC75E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73E9-9458-423D-A7F7-2F9C45F0CE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10C7-1DCB-427E-98FE-311D33030D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30DF-B79D-4632-8332-3B86EA37F6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126E-2942-466F-980B-5FE52B1942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D849-28FD-468A-9D08-68F6FD34C8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EDFE-B73C-4AC4-A92F-4E60BF8B75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BB06-C7E1-4809-A04C-2FFF9C84AA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021E-C66F-49D9-8842-69C8D5741C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C2A1-5C09-4259-9708-EDE14D66FE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4F1A-B264-4D31-8D5E-779D17520D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DC77-5DA2-421B-8E86-2F1CCE3E2E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7630-D675-4038-A616-FC5F06A8D3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FBBB-8478-44C3-A348-6D88860FA8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2D8A-9D70-4A40-A0E7-2BEB90CDF0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40F0-3EEA-4210-9E7C-052041D0CC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638A-1D58-49AD-B83E-624AAD16E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0839-A284-46DC-AAC8-01D16B8070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878C-04AF-48F0-BB3F-B236E3D79E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FCB5-9908-472B-8026-4F07C3959A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77F1-A4D5-4511-8335-DDD9E33BC2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C3CE-F67F-4909-A90D-5E6069F7B0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0947-3E30-4B5F-A4BB-BA9EC06F17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E557-47E7-45C5-B071-C640789DFB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80E3-DFEB-4DBE-96D5-6B4BA9CE66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089A-63D1-4F14-949E-F0FE4A5501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FB51-2D5E-4B3E-B212-AD2171230E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B442-7CD1-4733-9F27-198FE388F5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E3E4-01A7-4B19-8DB2-86447EF705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C8F7-9118-4BF1-9541-03234CD717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F765-4FC9-497F-AC5B-BDB182A169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0C02-E357-41EA-8E66-0D57DAC0A5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FFB2-A8FE-4C50-8A68-B684E413DA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FE07-ACB6-493E-87ED-FD313F83C5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BDA8-512A-42F2-8BEC-CA81672317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B08C-1014-490E-AC77-01367D4B60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ECDB-6468-4B82-908F-5CF91EEDEE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E6FE-296B-4501-970F-E61729E335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533520" y="2995560"/>
            <a:ext cx="80769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69633" descr=""/>
          <p:cNvPicPr/>
          <p:nvPr/>
        </p:nvPicPr>
        <p:blipFill>
          <a:blip r:embed="rId1"/>
          <a:stretch/>
        </p:blipFill>
        <p:spPr>
          <a:xfrm>
            <a:off x="880920" y="1341360"/>
            <a:ext cx="7382160" cy="215280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69634" descr=""/>
          <p:cNvPicPr/>
          <p:nvPr/>
        </p:nvPicPr>
        <p:blipFill>
          <a:blip r:embed="rId2"/>
          <a:stretch/>
        </p:blipFill>
        <p:spPr>
          <a:xfrm>
            <a:off x="228600" y="3666960"/>
            <a:ext cx="8686800" cy="2210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64584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4500720" y="249228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7308720" y="1844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7093080" y="24922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1763640" y="422100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1763640" y="48830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9"/>
          <a:stretch/>
        </p:blipFill>
        <p:spPr>
          <a:xfrm>
            <a:off x="4745160" y="42069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0"/>
          <a:stretch/>
        </p:blipFill>
        <p:spPr>
          <a:xfrm>
            <a:off x="4745160" y="48690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1"/>
          <a:stretch/>
        </p:blipFill>
        <p:spPr>
          <a:xfrm>
            <a:off x="8056440" y="428004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2"/>
          <a:stretch/>
        </p:blipFill>
        <p:spPr>
          <a:xfrm>
            <a:off x="7885080" y="491328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5200" y="814320"/>
            <a:ext cx="8553600" cy="522936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60429" descr=""/>
          <p:cNvPicPr/>
          <p:nvPr/>
        </p:nvPicPr>
        <p:blipFill>
          <a:blip r:embed="rId2"/>
          <a:stretch/>
        </p:blipFill>
        <p:spPr>
          <a:xfrm>
            <a:off x="1006560" y="3263760"/>
            <a:ext cx="794376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938160" y="2662200"/>
            <a:ext cx="7267680" cy="1533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6531120" y="3500280"/>
            <a:ext cx="50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8373" descr=""/>
          <p:cNvPicPr/>
          <p:nvPr/>
        </p:nvPicPr>
        <p:blipFill>
          <a:blip r:embed="rId1"/>
          <a:stretch/>
        </p:blipFill>
        <p:spPr>
          <a:xfrm>
            <a:off x="471600" y="847800"/>
            <a:ext cx="8200800" cy="553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6775560" y="5573880"/>
            <a:ext cx="50472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58375" descr=""/>
          <p:cNvPicPr/>
          <p:nvPr/>
        </p:nvPicPr>
        <p:blipFill>
          <a:blip r:embed="rId3"/>
          <a:stretch/>
        </p:blipFill>
        <p:spPr>
          <a:xfrm>
            <a:off x="1227240" y="1665360"/>
            <a:ext cx="74772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7352" descr=""/>
          <p:cNvPicPr/>
          <p:nvPr/>
        </p:nvPicPr>
        <p:blipFill>
          <a:blip r:embed="rId1"/>
          <a:stretch/>
        </p:blipFill>
        <p:spPr>
          <a:xfrm>
            <a:off x="523800" y="189000"/>
            <a:ext cx="8096400" cy="6324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6732720" y="573264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57354" descr=""/>
          <p:cNvPicPr/>
          <p:nvPr/>
        </p:nvPicPr>
        <p:blipFill>
          <a:blip r:embed="rId3"/>
          <a:stretch/>
        </p:blipFill>
        <p:spPr>
          <a:xfrm>
            <a:off x="1519200" y="1154160"/>
            <a:ext cx="70484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6324" descr=""/>
          <p:cNvPicPr/>
          <p:nvPr/>
        </p:nvPicPr>
        <p:blipFill>
          <a:blip r:embed="rId1"/>
          <a:stretch/>
        </p:blipFill>
        <p:spPr>
          <a:xfrm>
            <a:off x="571680" y="743040"/>
            <a:ext cx="8001000" cy="5371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6659640" y="5300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56326" descr=""/>
          <p:cNvPicPr/>
          <p:nvPr/>
        </p:nvPicPr>
        <p:blipFill>
          <a:blip r:embed="rId3"/>
          <a:stretch/>
        </p:blipFill>
        <p:spPr>
          <a:xfrm>
            <a:off x="2176560" y="1887480"/>
            <a:ext cx="60674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5300" descr=""/>
          <p:cNvPicPr/>
          <p:nvPr/>
        </p:nvPicPr>
        <p:blipFill>
          <a:blip r:embed="rId1"/>
          <a:stretch/>
        </p:blipFill>
        <p:spPr>
          <a:xfrm>
            <a:off x="204840" y="1728720"/>
            <a:ext cx="8734320" cy="340056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5301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44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55302" descr=""/>
          <p:cNvPicPr/>
          <p:nvPr/>
        </p:nvPicPr>
        <p:blipFill>
          <a:blip r:embed="rId3"/>
          <a:stretch/>
        </p:blipFill>
        <p:spPr>
          <a:xfrm>
            <a:off x="5321160" y="2766960"/>
            <a:ext cx="36385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4276" descr=""/>
          <p:cNvPicPr/>
          <p:nvPr/>
        </p:nvPicPr>
        <p:blipFill>
          <a:blip r:embed="rId1"/>
          <a:stretch/>
        </p:blipFill>
        <p:spPr>
          <a:xfrm>
            <a:off x="790560" y="1033560"/>
            <a:ext cx="7562880" cy="479088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54277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504828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2231" descr=""/>
          <p:cNvPicPr/>
          <p:nvPr/>
        </p:nvPicPr>
        <p:blipFill>
          <a:blip r:embed="rId1"/>
          <a:stretch/>
        </p:blipFill>
        <p:spPr>
          <a:xfrm>
            <a:off x="1581120" y="1781280"/>
            <a:ext cx="5981760" cy="329544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2232" descr=""/>
          <p:cNvPicPr/>
          <p:nvPr/>
        </p:nvPicPr>
        <p:blipFill>
          <a:blip r:embed="rId2"/>
          <a:stretch/>
        </p:blipFill>
        <p:spPr>
          <a:xfrm>
            <a:off x="1946160" y="1268280"/>
            <a:ext cx="48578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40:3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